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960-FD07-4E45-BC93-982CE90E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D25-D47C-4854-AB0D-D2F63A90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325-A1AD-4422-A2FF-5348271D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DF9-379B-4876-A9B9-57E4D8E3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5A8-D9AE-46F1-B86C-3E0AE928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245-7AB2-4AC4-A2BC-E4D13301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735-28AE-4B86-96CF-5F768965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ADF-47BD-4288-8276-8C0C05C3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56C-33F7-4AF5-BE29-300E915B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06F-E9C6-4484-899E-6457AECC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1F4-7D7A-47DE-A9F5-D7915278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94D-2EFE-409B-A5E1-7116E72B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C98B-C95F-4F5B-8CFE-2E6D4F2E7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4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w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anything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K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on chapters 10-1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0:22:21Z</dcterms:created>
  <dc:creator>student</dc:creator>
  <dc:description/>
  <dc:language>en-US</dc:language>
  <cp:lastModifiedBy>student</cp:lastModifiedBy>
  <dcterms:modified xsi:type="dcterms:W3CDTF">2011-04-01T19:51:28Z</dcterms:modified>
  <cp:revision>3</cp:revision>
  <dc:subject/>
  <dc:title>English</dc:title>
</cp:coreProperties>
</file>